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6.wmf" ContentType="image/x-wmf"/>
  <Override PartName="/ppt/media/image4.png" ContentType="image/png"/>
  <Override PartName="/ppt/media/image5.gif" ContentType="image/gif"/>
  <Override PartName="/ppt/media/image9.png" ContentType="image/png"/>
  <Override PartName="/ppt/media/image7.gif" ContentType="image/gif"/>
  <Override PartName="/ppt/media/image8.gif" ContentType="image/gif"/>
  <Override PartName="/ppt/media/image10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386-885C-434A-A7EF-2C6C2AEF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C6D-69EA-44CA-B500-0D0B1BCA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F55-0B84-4A1E-864A-F2A9A411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A98-6791-46F1-AD99-CBA89A16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13E7D-7CE5-4A14-8FB2-DA9480A8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E8C58-0430-46F5-ACE0-8EF99798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3BC3F-1638-45B0-ABD1-C3587650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3BCA2-7C31-4E70-9EBC-2E135D90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F7FB9-839E-41F7-8DB5-1793CD90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536FC-F27E-45CF-B723-557E2BC5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794B7-89D5-4201-8790-698AA381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43F-C958-424F-B102-2E2B8F5A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DCB3F-28BF-42FC-873A-11FE39EE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98E66-3B56-405C-9104-B4C125F7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AAB89-FEA9-44B9-911D-9AFBEE5B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14E13-9CEF-4F33-AA36-C524ACEC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54F47-6F5D-4EA9-A250-763D0DB2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861-0B78-497A-B8B7-8B8CFC1D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557-9906-42F7-8C93-95D74C51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230-EA39-401B-ADD6-47CB3187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9BB-37A9-4761-B67D-63915FF0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2E2-3E39-4165-9F91-1EDD1A0B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1E7-4200-4E43-8FE5-FFCB266E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FC7-0A5E-4B2C-ABAE-02788EAC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AF5C-C565-4D9C-B19B-B593C68FE7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84AE-21DF-4A24-B813-816B0033E6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85800" y="533520"/>
            <a:ext cx="5867280" cy="29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агностически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и  в  работ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циального  педагог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638680" y="3733920"/>
            <a:ext cx="26002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838080" y="533520"/>
            <a:ext cx="5105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Можно использовать вопрос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600200"/>
            <a:ext cx="75438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акие сложности присущи отношениям между лицами, входящими в семью (другую социальную группу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уществуют ли проблемы среди членов семь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асколько эффективны (неэффективны) формы общ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аковы основные возможности для реализации сути формальных и неформальных ролей каждого участника семь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то из окружения подопечного принимает значимые решения, каковы их последств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аковы основные конфликты, касающиеся подопечного, какие меры принимаются для их разрешени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391520" y="228600"/>
            <a:ext cx="137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9480" y="609480"/>
            <a:ext cx="81536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ahoma"/>
              </a:rPr>
              <a:t>4. Педагогическая диагностик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– это изучение личности, индивидуального и дифференцированного подхода в процессе обучения и воспитания для более эффективной реализации его основных функ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6668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438280"/>
            <a:ext cx="5105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етоды исследова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124080"/>
            <a:ext cx="2590560" cy="685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блюд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962520"/>
            <a:ext cx="2590920" cy="685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кет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15000" y="3048120"/>
            <a:ext cx="2971800" cy="685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 документ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4800600"/>
            <a:ext cx="2438280" cy="685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стир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609480" y="609480"/>
            <a:ext cx="7467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ребования к педагогической диагностик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295280"/>
            <a:ext cx="8001000" cy="35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изучение личности должно быть направлено на поиск резервов личности, ее нераскрытых возможностей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диагностика не должна быть самоцелью, а должна носить стимулирующий характер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изучение личности необходимо осуществлять в процессе деятельности и общения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личность изучается не изолированно, а в контексте социальных отношений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нельзя делать выводы о личности только на основе одного диагностического метода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8080" y="685800"/>
            <a:ext cx="769644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ahoma"/>
              </a:rPr>
              <a:t>5. Социально-педагогическая диагностик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– это специально организованный процесс познания, в котором происходит сбор информации о влиянии на личность и социум социально-психологических, педагогических, экологических и социологических факторов в целях повышения эффективности педагогических фактор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324480" y="3429000"/>
            <a:ext cx="1886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762120" y="457200"/>
            <a:ext cx="6172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иагностические методик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990720"/>
            <a:ext cx="7772400" cy="61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осник А.Басса и А.Дар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а: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все виды агресс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ификация теста Розенцвей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фрустрац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ст «Конфликтная ли вы личность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а: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онфликт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ст – опросник Шмиш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а: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акцентуац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а: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тревож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кала ситуативной тревожности и шкала личностной тревоги (опросник Спилберг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а: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евож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кала одиночества (Д.Рассе, Л.Пепо, М.Фергюсо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а: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оциальная изоляция, депрессия, ску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371600" y="457200"/>
            <a:ext cx="6400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лгоритм проведе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иагностик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828800"/>
            <a:ext cx="7391520" cy="30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Определение цели и задач исследования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Подбор критериев и показателей  для определения результативности изучаемого явления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Выбор методик изу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Подготовка диагностического инструментар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Обработка и интерпретация результатов исслед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019920" y="4419720"/>
            <a:ext cx="17985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 rot="20839800">
            <a:off x="779400" y="1378080"/>
            <a:ext cx="7239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715000" y="3200400"/>
            <a:ext cx="2500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2120" y="533520"/>
            <a:ext cx="7696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"Чтобы воспитать человека во всех отношениях, нужно знать его во всех отношениях.»-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Tahoma"/>
              </a:rPr>
              <a:t>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Tahoma"/>
              </a:rPr>
              <a:t>                         </a:t>
            </a:r>
            <a:r>
              <a:rPr b="0" i="1" lang="en-US" sz="4000" spc="-1" strike="noStrike">
                <a:solidFill>
                  <a:srgbClr val="000099"/>
                </a:solidFill>
                <a:latin typeface="Tahoma"/>
              </a:rPr>
              <a:t>Ушинский К.Д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57200"/>
            <a:ext cx="815328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Диагностика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(с греческог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3300"/>
                </a:solidFill>
                <a:latin typeface="Tahoma"/>
              </a:rPr>
              <a:t>di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сле, через и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3300"/>
                </a:solidFill>
                <a:latin typeface="Tahoma"/>
              </a:rPr>
              <a:t>gnosis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- знание т.е. </a:t>
            </a:r>
            <a:r>
              <a:rPr b="0" i="1" lang="ru-RU" sz="2800" spc="-1" strike="noStrike">
                <a:solidFill>
                  <a:srgbClr val="000099"/>
                </a:solidFill>
                <a:latin typeface="Tahoma"/>
              </a:rPr>
              <a:t>способный распознавать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) – это оценочная процедура, направленная на прояснение ситуации, выявление истинного уровня воспитан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Диагноз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– это определение состояния объ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3520" y="4343400"/>
            <a:ext cx="2638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2120" y="457200"/>
            <a:ext cx="79246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иды диагности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14400" y="990720"/>
            <a:ext cx="3048120" cy="1828800"/>
            <a:chOff x="914400" y="990720"/>
            <a:chExt cx="3048120" cy="1828800"/>
          </a:xfrm>
        </p:grpSpPr>
        <p:sp>
          <p:nvSpPr>
            <p:cNvPr id="98" name=""/>
            <p:cNvSpPr/>
            <p:nvPr/>
          </p:nvSpPr>
          <p:spPr>
            <a:xfrm>
              <a:off x="914400" y="1447920"/>
              <a:ext cx="2666880" cy="13716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199"/>
                  </a:solidFill>
                  <a:latin typeface="Tahoma"/>
                </a:rPr>
                <a:t>Медицинск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199"/>
                  </a:solidFill>
                  <a:latin typeface="Tahoma"/>
                </a:rPr>
                <a:t> </a:t>
              </a:r>
              <a:r>
                <a:rPr b="1" i="1" lang="en-US" sz="1800" spc="-1" strike="noStrike">
                  <a:solidFill>
                    <a:srgbClr val="010199"/>
                  </a:solidFill>
                  <a:latin typeface="Tahoma"/>
                </a:rPr>
                <a:t>диагности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048120" y="990720"/>
              <a:ext cx="91440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352680" y="990720"/>
            <a:ext cx="2667240" cy="3047760"/>
            <a:chOff x="3352680" y="990720"/>
            <a:chExt cx="2667240" cy="3047760"/>
          </a:xfrm>
        </p:grpSpPr>
        <p:sp>
          <p:nvSpPr>
            <p:cNvPr id="101" name=""/>
            <p:cNvSpPr/>
            <p:nvPr/>
          </p:nvSpPr>
          <p:spPr>
            <a:xfrm>
              <a:off x="3352680" y="2743200"/>
              <a:ext cx="2667240" cy="1295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199"/>
                  </a:solidFill>
                  <a:latin typeface="Tahoma"/>
                </a:rPr>
                <a:t>Социальна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199"/>
                  </a:solidFill>
                  <a:latin typeface="Tahoma"/>
                </a:rPr>
                <a:t>диагности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990720"/>
              <a:ext cx="0" cy="152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105520" y="990720"/>
            <a:ext cx="3200400" cy="1523880"/>
            <a:chOff x="5105520" y="990720"/>
            <a:chExt cx="3200400" cy="1523880"/>
          </a:xfrm>
        </p:grpSpPr>
        <p:sp>
          <p:nvSpPr>
            <p:cNvPr id="104" name=""/>
            <p:cNvSpPr/>
            <p:nvPr/>
          </p:nvSpPr>
          <p:spPr>
            <a:xfrm>
              <a:off x="5638680" y="1219320"/>
              <a:ext cx="2667240" cy="1295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199"/>
                  </a:solidFill>
                  <a:latin typeface="Tahoma"/>
                </a:rPr>
                <a:t>Психологическа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199"/>
                  </a:solidFill>
                  <a:latin typeface="Tahoma"/>
                </a:rPr>
                <a:t>диагности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05520" y="990720"/>
              <a:ext cx="68580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838080" y="1143000"/>
            <a:ext cx="3505320" cy="4572000"/>
            <a:chOff x="838080" y="1143000"/>
            <a:chExt cx="3505320" cy="4572000"/>
          </a:xfrm>
        </p:grpSpPr>
        <p:sp>
          <p:nvSpPr>
            <p:cNvPr id="107" name=""/>
            <p:cNvSpPr/>
            <p:nvPr/>
          </p:nvSpPr>
          <p:spPr>
            <a:xfrm>
              <a:off x="838080" y="4343400"/>
              <a:ext cx="2971800" cy="13716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199"/>
                  </a:solidFill>
                  <a:latin typeface="Tahoma"/>
                </a:rPr>
                <a:t>Педагогическа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199"/>
                  </a:solidFill>
                  <a:latin typeface="Tahoma"/>
                </a:rPr>
                <a:t>диагности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438280" y="1143000"/>
              <a:ext cx="1905120" cy="3124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952880" y="1066680"/>
            <a:ext cx="3657600" cy="4724640"/>
            <a:chOff x="4952880" y="1066680"/>
            <a:chExt cx="3657600" cy="4724640"/>
          </a:xfrm>
        </p:grpSpPr>
        <p:sp>
          <p:nvSpPr>
            <p:cNvPr id="110" name=""/>
            <p:cNvSpPr/>
            <p:nvPr/>
          </p:nvSpPr>
          <p:spPr>
            <a:xfrm>
              <a:off x="4952880" y="4343400"/>
              <a:ext cx="3657600" cy="14479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199"/>
                  </a:solidFill>
                  <a:latin typeface="Tahoma"/>
                </a:rPr>
                <a:t>Социально-педагогическ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199"/>
                  </a:solidFill>
                  <a:latin typeface="Tahoma"/>
                </a:rPr>
                <a:t>диагности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52880" y="1066680"/>
              <a:ext cx="2057400" cy="3124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90720" y="609480"/>
            <a:ext cx="7543800" cy="27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ahoma"/>
              </a:rPr>
              <a:t>1. Медицинская диагностика 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процесс установления медицинского диагноза, т.е. заключения о характере и существе болезни пациента на основе принятой классифика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Социального педагога диагноз будет интересовать с точки зрения психосоциальных и педагогических аспек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562720" y="3352680"/>
            <a:ext cx="270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2280" y="5724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609480"/>
            <a:ext cx="79246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ahoma"/>
              </a:rPr>
              <a:t>2. Психологическая диагностика (психодиагностика)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явление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ндивидуально-психологических свойств ли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ё целью является установление психологического диагноза как заключение об актуальном состоянии психологических особенностей личности и прогнозе их дальнейшего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33526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791320" y="4114800"/>
            <a:ext cx="18176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457200"/>
            <a:ext cx="7925040" cy="50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Диагностический миниму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ahoma"/>
              </a:rPr>
              <a:t>1 класс</a:t>
            </a:r>
            <a:r>
              <a:rPr b="1" i="1" lang="ru-RU" sz="1800" spc="-1" strike="noStrike">
                <a:solidFill>
                  <a:srgbClr val="010199"/>
                </a:solidFill>
                <a:latin typeface="Tahoma"/>
              </a:rPr>
              <a:t> – </a:t>
            </a:r>
            <a:r>
              <a:rPr b="1" i="1" lang="ru-RU" sz="2000" spc="-1" strike="noStrike">
                <a:solidFill>
                  <a:srgbClr val="010199"/>
                </a:solidFill>
                <a:latin typeface="Tahoma"/>
              </a:rPr>
              <a:t>Пакет методик на готовность, проективные                           методики, мотивационная анкета (Лусканова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ahoma"/>
              </a:rPr>
              <a:t>4 класс</a:t>
            </a:r>
            <a:r>
              <a:rPr b="1" i="1" lang="ru-RU" sz="2000" spc="-1" strike="noStrike">
                <a:solidFill>
                  <a:srgbClr val="010199"/>
                </a:solidFill>
                <a:latin typeface="Tahoma"/>
              </a:rPr>
              <a:t> – Мотивационная анкета (Лусканова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99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010199"/>
                </a:solidFill>
                <a:latin typeface="Tahoma"/>
              </a:rPr>
              <a:t>интеллектуальный тест, тест тревожности (Филипс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ahoma"/>
              </a:rPr>
              <a:t>5 класс</a:t>
            </a:r>
            <a:r>
              <a:rPr b="1" i="1" lang="ru-RU" sz="2000" spc="-1" strike="noStrike">
                <a:solidFill>
                  <a:srgbClr val="010199"/>
                </a:solidFill>
                <a:latin typeface="Tahoma"/>
              </a:rPr>
              <a:t> - Мотивационная анкета, тест тревожности  (Филипс), психологический климат класс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ahoma"/>
              </a:rPr>
              <a:t>8 класс</a:t>
            </a:r>
            <a:r>
              <a:rPr b="1" i="1" lang="ru-RU" sz="2000" spc="-1" strike="noStrike">
                <a:solidFill>
                  <a:srgbClr val="010199"/>
                </a:solidFill>
                <a:latin typeface="Tahoma"/>
              </a:rPr>
              <a:t> – Мотивационная анкета, личностный опросник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99"/>
                </a:solidFill>
                <a:latin typeface="Tahoma"/>
              </a:rPr>
              <a:t>                </a:t>
            </a:r>
            <a:r>
              <a:rPr b="1" i="1" lang="ru-RU" sz="2000" spc="-1" strike="noStrike">
                <a:solidFill>
                  <a:srgbClr val="010199"/>
                </a:solidFill>
                <a:latin typeface="Tahoma"/>
              </a:rPr>
              <a:t>(Р.Кеттела), психологический климат класс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ahoma"/>
              </a:rPr>
              <a:t>10 класс</a:t>
            </a:r>
            <a:r>
              <a:rPr b="1" i="1" lang="ru-RU" sz="2000" spc="-1" strike="noStrike">
                <a:solidFill>
                  <a:srgbClr val="010199"/>
                </a:solidFill>
                <a:latin typeface="Tahoma"/>
              </a:rPr>
              <a:t> – профориентационный тес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99"/>
                </a:solidFill>
                <a:latin typeface="Tahoma"/>
              </a:rPr>
              <a:t>                   </a:t>
            </a:r>
            <a:r>
              <a:rPr b="1" i="1" lang="ru-RU" sz="2000" spc="-1" strike="noStrike">
                <a:solidFill>
                  <a:srgbClr val="010199"/>
                </a:solidFill>
                <a:latin typeface="Tahoma"/>
              </a:rPr>
              <a:t>психологический климат класса,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99"/>
                </a:solidFill>
                <a:latin typeface="Tahoma"/>
              </a:rPr>
              <a:t>                  </a:t>
            </a:r>
            <a:r>
              <a:rPr b="1" i="1" lang="ru-RU" sz="2000" spc="-1" strike="noStrike">
                <a:solidFill>
                  <a:srgbClr val="010199"/>
                </a:solidFill>
                <a:latin typeface="Tahoma"/>
              </a:rPr>
              <a:t>тревожность (Кандаш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9480" y="457200"/>
            <a:ext cx="7925040" cy="62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Психодиагностические призна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изкая познавательная активность и личностная незрел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изкий уровень самоконтроля и самоорганизации в деятельности и повед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енный интерес к ситуациям, включающим жестокость и агресс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мотивированность, неадекватность повед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рицательное отношение к учению, к школе, побеги из до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хранение инфантильности, слабовол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ннее половое развит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66680" y="685800"/>
            <a:ext cx="7467840" cy="47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ahoma"/>
              </a:rPr>
              <a:t>3. Социальная диагностика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– это комплексный подход выявления и изучения причинно-следственных связей и взаимоотношений в обществе, характеризующих его социально-экономические, культурно-правовые, нравственно-психологические, медико-биологические и санитарно-экологические состоя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Её целью является постановка социального диагноза, т. е. определение проблем людей и условий, необходимых для дифференцированной помощ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62120" y="4319640"/>
            <a:ext cx="30477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6T16:46:0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